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AF79B-7FF8-406E-9707-DCDDF6E27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370B4-DADD-4AE9-B184-AF4956F7C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B0EBC-1523-455F-B6ED-BBA892801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D6912-6697-49A8-B333-32397C91C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08218-EC86-450D-9BD4-82D3306B6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2407D-8459-4D2F-9B7D-B52B38B46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3FDC2-C158-498E-BBB3-C71A23588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1DED7-0473-48A7-A16D-2279F4435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0FC1F-DBAA-407A-9555-AFAE22CCB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390CA-076A-4384-8935-F594BFD75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DBF7B-643C-4976-AA75-939115EF0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435E6-32CE-4414-80E3-4B6ADC632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C47A3-6925-47AF-BBDA-1217486266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tc.usf.edu/clipart/41700/41700/FC_Congruent_41700_th.gif"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gruency of Polyg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lygon is any shape that has more than two si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uency is when two objects have the same size and shape.</a:t>
            </a:r>
            <a:endParaRPr b="0" lang="en-US" sz="2800" spc="-1" strike="noStrike">
              <a:solidFill>
                <a:srgbClr val="000000"/>
              </a:solidFill>
              <a:latin typeface="Arial"/>
            </a:endParaRPr>
          </a:p>
        </p:txBody>
      </p:sp>
      <p:pic>
        <p:nvPicPr>
          <p:cNvPr id="43" name="" descr=""/>
          <p:cNvPicPr/>
          <p:nvPr/>
        </p:nvPicPr>
        <p:blipFill>
          <a:blip r:embed="rId1"/>
          <a:stretch/>
        </p:blipFill>
        <p:spPr>
          <a:xfrm>
            <a:off x="4648320" y="1447920"/>
            <a:ext cx="4038480" cy="2530440"/>
          </a:xfrm>
          <a:prstGeom prst="rect">
            <a:avLst/>
          </a:prstGeom>
          <a:ln w="0">
            <a:noFill/>
          </a:ln>
        </p:spPr>
      </p:pic>
      <p:pic>
        <p:nvPicPr>
          <p:cNvPr id="44" name="" descr="">
            <a:hlinkClick r:id="rId2"/>
          </p:cNvPr>
          <p:cNvPicPr/>
          <p:nvPr/>
        </p:nvPicPr>
        <p:blipFill>
          <a:blip r:embed="rId3"/>
          <a:stretch/>
        </p:blipFill>
        <p:spPr>
          <a:xfrm>
            <a:off x="1905120" y="5029200"/>
            <a:ext cx="1085760" cy="139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uent polygons have the equal number of sides and have all congruent angles. However, they can be in a different location or flipped ov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triangles are congruent.</a:t>
            </a:r>
            <a:endParaRPr b="0" lang="en-US" sz="3200" spc="-1" strike="noStrike">
              <a:solidFill>
                <a:srgbClr val="000000"/>
              </a:solidFill>
              <a:latin typeface="Arial"/>
            </a:endParaRPr>
          </a:p>
        </p:txBody>
      </p:sp>
      <p:pic>
        <p:nvPicPr>
          <p:cNvPr id="46" name="" descr=""/>
          <p:cNvPicPr/>
          <p:nvPr/>
        </p:nvPicPr>
        <p:blipFill>
          <a:blip r:embed="rId1"/>
          <a:stretch/>
        </p:blipFill>
        <p:spPr>
          <a:xfrm>
            <a:off x="2743200" y="3505320"/>
            <a:ext cx="3200400" cy="210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Shortcuts for Determining Similar Triangle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5 rules to determining whether or not two triangles are congruent.</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SS: When three sides are congru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S: When two sides and an angle are congru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A: When two angles and one included side are congru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S: When two angles and one non-included side are congru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potenuse Leg Theorem: When the hypotenuse and the right angle of two triangles are congruent</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enuse Leg Theorem</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hypotenuse of a triangle is the side of a triangle opposite the 90 degree angle. In order to have two triangles congruent with the hypotenuse leg theorem, both the hypotenuse and one of the 90 degree sides must be congruent.</a:t>
            </a:r>
            <a:endParaRPr b="0" lang="en-US" sz="2600" spc="-1" strike="noStrike">
              <a:solidFill>
                <a:srgbClr val="000000"/>
              </a:solidFill>
              <a:latin typeface="Arial"/>
            </a:endParaRPr>
          </a:p>
        </p:txBody>
      </p:sp>
      <p:pic>
        <p:nvPicPr>
          <p:cNvPr id="51" name="" descr=""/>
          <p:cNvPicPr/>
          <p:nvPr/>
        </p:nvPicPr>
        <p:blipFill>
          <a:blip r:embed="rId1"/>
          <a:stretch/>
        </p:blipFill>
        <p:spPr>
          <a:xfrm>
            <a:off x="2286000" y="3886200"/>
            <a:ext cx="3933720" cy="23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the sides with the single tick mark would be the hypotenuse. The sides with the double tick mark would be a side of a 90 degree angle. Since the triangles below have both, they are congruent according to the hypotenuse leg theorem.</a:t>
            </a:r>
            <a:endParaRPr b="0" lang="en-US" sz="3200" spc="-1" strike="noStrike">
              <a:solidFill>
                <a:srgbClr val="000000"/>
              </a:solidFill>
              <a:latin typeface="Arial"/>
            </a:endParaRPr>
          </a:p>
        </p:txBody>
      </p:sp>
      <p:pic>
        <p:nvPicPr>
          <p:cNvPr id="53" name="" descr=""/>
          <p:cNvPicPr/>
          <p:nvPr/>
        </p:nvPicPr>
        <p:blipFill>
          <a:blip r:embed="rId1"/>
          <a:stretch/>
        </p:blipFill>
        <p:spPr>
          <a:xfrm>
            <a:off x="2590920" y="4038480"/>
            <a:ext cx="380988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3T16:08:55Z</dcterms:created>
  <dc:creator>010484</dc:creator>
  <dc:description/>
  <dc:language>en-US</dc:language>
  <cp:lastModifiedBy>010484</cp:lastModifiedBy>
  <dcterms:modified xsi:type="dcterms:W3CDTF">2008-04-23T16:39:26Z</dcterms:modified>
  <cp:revision>2</cp:revision>
  <dc:subject/>
  <dc:title>The Congruency of Polygons</dc:title>
</cp:coreProperties>
</file>